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91F-6958-48D1-B603-AA66B631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772-CF04-461B-AE2A-A56DA390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175-B88F-4FEE-ACFA-359A429E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CF7-3658-421E-BAAF-284B6E22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DEE-2232-4531-883F-BCDADC5B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1D6-4131-4FD9-99CA-BCE347F0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772-BB32-40E8-93E7-7D817BC2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5BE-4AF5-4523-8B99-BF1E56B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63D-9E0A-4806-951B-99D1C498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3D0-E712-4284-AF92-55716232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E70-96BC-4BC5-8603-8C97607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3B7-6284-491A-BD2D-9CE5B29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64E3-0007-4B76-B382-36645FE73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ÉNERGIE CINÉTIQUE et TRAVA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ésentation du dispositif expérime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320" y="304920"/>
            <a:ext cx="9067680" cy="4152960"/>
            <a:chOff x="76320" y="304920"/>
            <a:chExt cx="9067680" cy="4152960"/>
          </a:xfrm>
        </p:grpSpPr>
        <p:grpSp>
          <p:nvGrpSpPr>
            <p:cNvPr id="45" name=""/>
            <p:cNvGrpSpPr/>
            <p:nvPr/>
          </p:nvGrpSpPr>
          <p:grpSpPr>
            <a:xfrm>
              <a:off x="609480" y="990720"/>
              <a:ext cx="6781680" cy="3058920"/>
              <a:chOff x="609480" y="990720"/>
              <a:chExt cx="6781680" cy="3058920"/>
            </a:xfrm>
          </p:grpSpPr>
          <p:pic>
            <p:nvPicPr>
              <p:cNvPr id="46" name="Banc%20Magnum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2600" y="1113840"/>
                <a:ext cx="5938560" cy="293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flipH="1">
                <a:off x="1278000" y="2137320"/>
                <a:ext cx="2997360" cy="23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59560" y="2363400"/>
                <a:ext cx="395640" cy="395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49480" y="2553840"/>
                <a:ext cx="0" cy="85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15560" y="3402000"/>
                <a:ext cx="262080" cy="416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5221800" y="990720"/>
                <a:ext cx="10692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6779520" y="1705320"/>
                <a:ext cx="524160" cy="31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5565600" y="2697840"/>
                <a:ext cx="647640" cy="73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9480" y="1849320"/>
                <a:ext cx="524160" cy="52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1334160" y="3700080"/>
                <a:ext cx="174600" cy="34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181480" y="304920"/>
              <a:ext cx="33530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pteur double faisceau relié à un PC via l'interface ORP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1143000"/>
              <a:ext cx="1752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anc Magnum avec souffler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3429000"/>
              <a:ext cx="434340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stème 1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hariot comportant des barres verticales espacées de 3,6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320" y="14479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oulie fixée sur un 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480" y="4038840"/>
              <a:ext cx="3048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stème 2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sse à cr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441972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aliser ce dispositif, bien lire l’énonc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76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ur que le banc soit bien horizont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ettre en route la soufflerie, le chariot doit alors rester immobi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ir su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ndre un niveau à bulles, le placer perpendiculairement à l’axe du banc.Agir sur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e p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9440" y="3886200"/>
            <a:ext cx="584280" cy="1981080"/>
          </a:xfrm>
          <a:custGeom>
            <a:avLst/>
            <a:gdLst/>
            <a:ahLst/>
            <a:rect l="l" t="t" r="r" b="b"/>
            <a:pathLst>
              <a:path w="368" h="1248">
                <a:moveTo>
                  <a:pt x="368" y="1248"/>
                </a:moveTo>
                <a:cubicBezTo>
                  <a:pt x="216" y="992"/>
                  <a:pt x="64" y="736"/>
                  <a:pt x="32" y="528"/>
                </a:cubicBezTo>
                <a:cubicBezTo>
                  <a:pt x="0" y="320"/>
                  <a:pt x="88" y="160"/>
                  <a:pt x="17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24080"/>
            <a:ext cx="6121440" cy="3505320"/>
          </a:xfrm>
          <a:custGeom>
            <a:avLst/>
            <a:gdLst/>
            <a:ahLst/>
            <a:rect l="l" t="t" r="r" b="b"/>
            <a:pathLst>
              <a:path w="3856" h="2208">
                <a:moveTo>
                  <a:pt x="0" y="2208"/>
                </a:moveTo>
                <a:cubicBezTo>
                  <a:pt x="1480" y="2152"/>
                  <a:pt x="2960" y="2096"/>
                  <a:pt x="3408" y="1728"/>
                </a:cubicBezTo>
                <a:cubicBezTo>
                  <a:pt x="3856" y="1360"/>
                  <a:pt x="3272" y="680"/>
                  <a:pt x="268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275440"/>
            <a:ext cx="762012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I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é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quels paramètres dépend la vitesse du système 1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Felix%20chat" descr=""/>
          <p:cNvPicPr/>
          <p:nvPr/>
        </p:nvPicPr>
        <p:blipFill>
          <a:blip r:embed="rId1"/>
          <a:stretch/>
        </p:blipFill>
        <p:spPr>
          <a:xfrm>
            <a:off x="2192400" y="4568760"/>
            <a:ext cx="3504960" cy="15242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14480" y="-25560"/>
            <a:ext cx="9067680" cy="4152960"/>
            <a:chOff x="114480" y="-25560"/>
            <a:chExt cx="9067680" cy="4152960"/>
          </a:xfrm>
        </p:grpSpPr>
        <p:grpSp>
          <p:nvGrpSpPr>
            <p:cNvPr id="68" name=""/>
            <p:cNvGrpSpPr/>
            <p:nvPr/>
          </p:nvGrpSpPr>
          <p:grpSpPr>
            <a:xfrm>
              <a:off x="647640" y="660240"/>
              <a:ext cx="6781680" cy="3058920"/>
              <a:chOff x="647640" y="660240"/>
              <a:chExt cx="6781680" cy="3058920"/>
            </a:xfrm>
          </p:grpSpPr>
          <p:pic>
            <p:nvPicPr>
              <p:cNvPr id="69" name="Banc%20Magnum2" descr=""/>
              <p:cNvPicPr/>
              <p:nvPr/>
            </p:nvPicPr>
            <p:blipFill>
              <a:blip r:embed="rId2"/>
              <a:stretch/>
            </p:blipFill>
            <p:spPr>
              <a:xfrm>
                <a:off x="1490760" y="783360"/>
                <a:ext cx="5938560" cy="293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H="1">
                <a:off x="1316160" y="1806840"/>
                <a:ext cx="2997360" cy="23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197720" y="2032920"/>
                <a:ext cx="395640" cy="395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87640" y="2223360"/>
                <a:ext cx="0" cy="85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53720" y="3071520"/>
                <a:ext cx="262080" cy="416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5259960" y="660240"/>
                <a:ext cx="10692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817680" y="1374840"/>
                <a:ext cx="524160" cy="31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5603760" y="2367360"/>
                <a:ext cx="647640" cy="73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7640" y="1518840"/>
                <a:ext cx="524160" cy="52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1372320" y="3369600"/>
                <a:ext cx="174600" cy="34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5219640" y="-25560"/>
              <a:ext cx="33530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pteur double faisceau relié à un PC via l'interface ORP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24760" y="812520"/>
              <a:ext cx="1752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anc Magnum avec souffler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38760" y="3098520"/>
              <a:ext cx="434340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stème 1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hariot comportant des barres verticales espacées de 3,6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4480" y="111744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oulie fixée sur un 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640" y="3708360"/>
              <a:ext cx="3048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stème 2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sse à cr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II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Étude théo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9920" y="1055520"/>
            <a:ext cx="31431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89240" y="814320"/>
            <a:ext cx="871560" cy="322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62440" y="836640"/>
            <a:ext cx="8715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08240" y="99360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35160" y="993600"/>
            <a:ext cx="235080" cy="23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10936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6520" y="1452600"/>
            <a:ext cx="4172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73600" y="685800"/>
            <a:ext cx="17640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1219320"/>
            <a:ext cx="1771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447920"/>
            <a:ext cx="6858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0960" y="2330280"/>
            <a:ext cx="417600" cy="417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0200" y="1876320"/>
            <a:ext cx="0" cy="44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76720"/>
            <a:ext cx="914400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tude du systèm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ire un bilan des forces extérieures appliquées au chariot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forc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257800" y="990720"/>
            <a:ext cx="457200" cy="1428480"/>
            <a:chOff x="5257800" y="990720"/>
            <a:chExt cx="457200" cy="1428480"/>
          </a:xfrm>
        </p:grpSpPr>
        <p:sp>
          <p:nvSpPr>
            <p:cNvPr id="99" name=""/>
            <p:cNvSpPr/>
            <p:nvPr/>
          </p:nvSpPr>
          <p:spPr>
            <a:xfrm>
              <a:off x="5257800" y="990720"/>
              <a:ext cx="0" cy="99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34120" y="1752480"/>
                  <a:ext cx="38088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" name=""/>
          <p:cNvGrpSpPr/>
          <p:nvPr/>
        </p:nvGrpSpPr>
        <p:grpSpPr>
          <a:xfrm>
            <a:off x="5257800" y="0"/>
            <a:ext cx="488880" cy="990720"/>
            <a:chOff x="5257800" y="0"/>
            <a:chExt cx="488880" cy="990720"/>
          </a:xfrm>
        </p:grpSpPr>
        <p:sp>
          <p:nvSpPr>
            <p:cNvPr id="102" name=""/>
            <p:cNvSpPr/>
            <p:nvPr/>
          </p:nvSpPr>
          <p:spPr>
            <a:xfrm flipV="1">
              <a:off x="5257800" y="0"/>
              <a:ext cx="0" cy="990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334120" y="152280"/>
                  <a:ext cx="41256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4267080" y="228600"/>
            <a:ext cx="990720" cy="762120"/>
            <a:chOff x="4267080" y="228600"/>
            <a:chExt cx="990720" cy="762120"/>
          </a:xfrm>
        </p:grpSpPr>
        <p:sp>
          <p:nvSpPr>
            <p:cNvPr id="105" name=""/>
            <p:cNvSpPr/>
            <p:nvPr/>
          </p:nvSpPr>
          <p:spPr>
            <a:xfrm flipH="1">
              <a:off x="4267080" y="990720"/>
              <a:ext cx="990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267080" y="228600"/>
                  <a:ext cx="3492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2847960"/>
            <a:ext cx="9144000" cy="1241640"/>
            <a:chOff x="0" y="2847960"/>
            <a:chExt cx="9144000" cy="1241640"/>
          </a:xfrm>
        </p:grpSpPr>
        <p:sp>
          <p:nvSpPr>
            <p:cNvPr id="108" name=""/>
            <p:cNvSpPr/>
            <p:nvPr/>
          </p:nvSpPr>
          <p:spPr>
            <a:xfrm>
              <a:off x="0" y="2847960"/>
              <a:ext cx="9144000" cy="124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Exprimer littéralement le travail mécanique de chacune de ces forces.</a:t>
              </a:r>
              <a:br>
                <a:rPr sz="2400"/>
              </a:b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alculer le travail de la force poids      et le travail de la force      exercée par l’air au cours du déplacement de A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à B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444920" y="3152880"/>
                  <a:ext cx="3049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7569360" y="3165480"/>
                  <a:ext cx="3762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"/>
          <p:cNvSpPr/>
          <p:nvPr/>
        </p:nvSpPr>
        <p:spPr>
          <a:xfrm>
            <a:off x="3409920" y="1055520"/>
            <a:ext cx="31431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89240" y="814320"/>
            <a:ext cx="871560" cy="322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62440" y="836640"/>
            <a:ext cx="8715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108240" y="99360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35160" y="993600"/>
            <a:ext cx="235080" cy="23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0200" y="10936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46520" y="1452600"/>
            <a:ext cx="4172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73600" y="685800"/>
            <a:ext cx="17640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1771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447920"/>
            <a:ext cx="6858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0960" y="2330280"/>
            <a:ext cx="417600" cy="417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0200" y="1876320"/>
            <a:ext cx="0" cy="44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257800" y="990720"/>
            <a:ext cx="457200" cy="1428480"/>
            <a:chOff x="5257800" y="990720"/>
            <a:chExt cx="457200" cy="1428480"/>
          </a:xfrm>
        </p:grpSpPr>
        <p:sp>
          <p:nvSpPr>
            <p:cNvPr id="124" name=""/>
            <p:cNvSpPr/>
            <p:nvPr/>
          </p:nvSpPr>
          <p:spPr>
            <a:xfrm>
              <a:off x="5257800" y="990720"/>
              <a:ext cx="0" cy="99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334120" y="1752480"/>
                  <a:ext cx="38088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5257800" y="0"/>
            <a:ext cx="488880" cy="990720"/>
            <a:chOff x="5257800" y="0"/>
            <a:chExt cx="488880" cy="990720"/>
          </a:xfrm>
        </p:grpSpPr>
        <p:sp>
          <p:nvSpPr>
            <p:cNvPr id="127" name=""/>
            <p:cNvSpPr/>
            <p:nvPr/>
          </p:nvSpPr>
          <p:spPr>
            <a:xfrm flipV="1">
              <a:off x="5257800" y="0"/>
              <a:ext cx="0" cy="990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334120" y="152280"/>
                  <a:ext cx="41256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4267080" y="228600"/>
            <a:ext cx="990720" cy="762120"/>
            <a:chOff x="4267080" y="228600"/>
            <a:chExt cx="990720" cy="762120"/>
          </a:xfrm>
        </p:grpSpPr>
        <p:sp>
          <p:nvSpPr>
            <p:cNvPr id="130" name=""/>
            <p:cNvSpPr/>
            <p:nvPr/>
          </p:nvSpPr>
          <p:spPr>
            <a:xfrm flipH="1">
              <a:off x="4267080" y="990720"/>
              <a:ext cx="990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4267080" y="228600"/>
                  <a:ext cx="3492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0" y="5761080"/>
                <a:ext cx="165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4843440"/>
                <a:ext cx="1690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4025880"/>
                <a:ext cx="165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697040" y="4199040"/>
            <a:ext cx="25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tt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3120" y="494496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tt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54200" y="59166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tt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4992840"/>
            <a:ext cx="13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6840" y="584208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93040" y="4765680"/>
            <a:ext cx="2550960" cy="1853640"/>
            <a:chOff x="6593040" y="4765680"/>
            <a:chExt cx="2550960" cy="1853640"/>
          </a:xfrm>
        </p:grpSpPr>
        <p:pic>
          <p:nvPicPr>
            <p:cNvPr id="141" name="man_head_spinning_md_wht" descr=""/>
            <p:cNvPicPr/>
            <p:nvPr/>
          </p:nvPicPr>
          <p:blipFill>
            <a:blip r:embed="rId1"/>
            <a:stretch/>
          </p:blipFill>
          <p:spPr>
            <a:xfrm>
              <a:off x="6907320" y="47656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593040" y="6159600"/>
              <a:ext cx="25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érification pr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719440"/>
            <a:ext cx="9144000" cy="9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imer littéralement la variation d'énergie cinétiq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système 1 en fonction de 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V²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V²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0" y="0"/>
            <a:ext cx="4267080" cy="3081240"/>
            <a:chOff x="2286000" y="0"/>
            <a:chExt cx="4267080" cy="3081240"/>
          </a:xfrm>
        </p:grpSpPr>
        <p:sp>
          <p:nvSpPr>
            <p:cNvPr id="145" name=""/>
            <p:cNvSpPr/>
            <p:nvPr/>
          </p:nvSpPr>
          <p:spPr>
            <a:xfrm>
              <a:off x="3409920" y="1055520"/>
              <a:ext cx="3143160" cy="22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89240" y="814320"/>
              <a:ext cx="871560" cy="3222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2440" y="836640"/>
              <a:ext cx="87156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08240" y="993600"/>
              <a:ext cx="16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35160" y="993600"/>
              <a:ext cx="23508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0200" y="10936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6520" y="1452600"/>
              <a:ext cx="41724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73600" y="685800"/>
              <a:ext cx="176400" cy="53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1120" y="1219320"/>
              <a:ext cx="1771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447920"/>
              <a:ext cx="68580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0960" y="2330280"/>
              <a:ext cx="417600" cy="4176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0200" y="1876320"/>
              <a:ext cx="0" cy="449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257800" y="990720"/>
              <a:ext cx="457200" cy="1428480"/>
              <a:chOff x="5257800" y="990720"/>
              <a:chExt cx="457200" cy="1428480"/>
            </a:xfrm>
          </p:grpSpPr>
          <p:sp>
            <p:nvSpPr>
              <p:cNvPr id="158" name=""/>
              <p:cNvSpPr/>
              <p:nvPr/>
            </p:nvSpPr>
            <p:spPr>
              <a:xfrm>
                <a:off x="5257800" y="990720"/>
                <a:ext cx="0" cy="990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5334120" y="1752480"/>
                    <a:ext cx="38088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60" name=""/>
            <p:cNvGrpSpPr/>
            <p:nvPr/>
          </p:nvGrpSpPr>
          <p:grpSpPr>
            <a:xfrm>
              <a:off x="5257800" y="0"/>
              <a:ext cx="488880" cy="990720"/>
              <a:chOff x="5257800" y="0"/>
              <a:chExt cx="488880" cy="99072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5257800" y="0"/>
                <a:ext cx="0" cy="990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5334120" y="152280"/>
                    <a:ext cx="412560" cy="54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63" name=""/>
            <p:cNvGrpSpPr/>
            <p:nvPr/>
          </p:nvGrpSpPr>
          <p:grpSpPr>
            <a:xfrm>
              <a:off x="4267080" y="228600"/>
              <a:ext cx="990720" cy="762120"/>
              <a:chOff x="4267080" y="228600"/>
              <a:chExt cx="990720" cy="76212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4267080" y="990720"/>
                <a:ext cx="99072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4267080" y="228600"/>
                    <a:ext cx="34920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166" name="man_head_spinning_md_wht" descr=""/>
          <p:cNvPicPr/>
          <p:nvPr/>
        </p:nvPicPr>
        <p:blipFill>
          <a:blip r:embed="rId1"/>
          <a:stretch/>
        </p:blipFill>
        <p:spPr>
          <a:xfrm>
            <a:off x="1758960" y="3514680"/>
            <a:ext cx="1035000" cy="103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90720" y="377820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érification p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4740120"/>
            <a:ext cx="9144000" cy="2117880"/>
            <a:chOff x="0" y="4740120"/>
            <a:chExt cx="9144000" cy="2117880"/>
          </a:xfrm>
        </p:grpSpPr>
        <p:grpSp>
          <p:nvGrpSpPr>
            <p:cNvPr id="169" name=""/>
            <p:cNvGrpSpPr/>
            <p:nvPr/>
          </p:nvGrpSpPr>
          <p:grpSpPr>
            <a:xfrm>
              <a:off x="0" y="4740120"/>
              <a:ext cx="9144000" cy="1589760"/>
              <a:chOff x="0" y="4740120"/>
              <a:chExt cx="9144000" cy="15897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5438520"/>
                <a:ext cx="9144000" cy="891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tiliser l'encadré ci-dessus pour trouver une relation entre            et m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V²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, V²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.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à encadre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7508880" y="5395680"/>
                    <a:ext cx="934920" cy="53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72" name=""/>
              <p:cNvGrpSpPr/>
              <p:nvPr/>
            </p:nvGrpSpPr>
            <p:grpSpPr>
              <a:xfrm>
                <a:off x="1227240" y="4740120"/>
                <a:ext cx="5786280" cy="694440"/>
                <a:chOff x="1227240" y="4740120"/>
                <a:chExt cx="5786280" cy="694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227240" y="4740120"/>
                  <a:ext cx="5786280" cy="694440"/>
                </a:xfrm>
                <a:prstGeom prst="rect">
                  <a:avLst/>
                </a:prstGeom>
                <a:solidFill>
                  <a:srgbClr val="ffff00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= E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B) </a:t>
                  </a:r>
                  <a:r>
                    <a:rPr b="1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A) = </a:t>
                  </a:r>
                  <a:r>
                    <a:rPr b="1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       )</a:t>
                  </a:r>
                  <a:br>
                    <a:rPr sz="2400"/>
                  </a:b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4" name=""/>
                    <p:cNvSpPr txBox="1"/>
                    <p:nvPr/>
                  </p:nvSpPr>
                  <p:spPr>
                    <a:xfrm>
                      <a:off x="5238720" y="4813200"/>
                      <a:ext cx="482760" cy="506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t</m:t>
                                  </m:r>
                                </m:sub>
                              </m:sSub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pic>
          <p:nvPicPr>
            <p:cNvPr id="175" name="man_head_spinning_md_wht" descr=""/>
            <p:cNvPicPr/>
            <p:nvPr/>
          </p:nvPicPr>
          <p:blipFill>
            <a:blip r:embed="rId2"/>
            <a:stretch/>
          </p:blipFill>
          <p:spPr>
            <a:xfrm>
              <a:off x="3645000" y="5823000"/>
              <a:ext cx="1035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676760" y="6086520"/>
              <a:ext cx="25509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érification pr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409920" y="1601640"/>
            <a:ext cx="31431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9240" y="1360440"/>
            <a:ext cx="871560" cy="322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2440" y="1382760"/>
            <a:ext cx="8715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108240" y="153972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35160" y="1539720"/>
            <a:ext cx="235080" cy="23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0200" y="16398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46520" y="1998720"/>
            <a:ext cx="4172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73600" y="1231920"/>
            <a:ext cx="17640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1765440"/>
            <a:ext cx="1771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1994040"/>
            <a:ext cx="6858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0960" y="2876400"/>
            <a:ext cx="417600" cy="417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0200" y="2422440"/>
            <a:ext cx="0" cy="44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4880" y="2197080"/>
            <a:ext cx="501480" cy="990720"/>
            <a:chOff x="3044880" y="2197080"/>
            <a:chExt cx="501480" cy="990720"/>
          </a:xfrm>
        </p:grpSpPr>
        <p:sp>
          <p:nvSpPr>
            <p:cNvPr id="190" name=""/>
            <p:cNvSpPr/>
            <p:nvPr/>
          </p:nvSpPr>
          <p:spPr>
            <a:xfrm>
              <a:off x="3044880" y="2197080"/>
              <a:ext cx="0" cy="990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102120" y="2381400"/>
                  <a:ext cx="4442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"/>
          <p:cNvGrpSpPr/>
          <p:nvPr/>
        </p:nvGrpSpPr>
        <p:grpSpPr>
          <a:xfrm>
            <a:off x="2549520" y="1006200"/>
            <a:ext cx="492120" cy="990360"/>
            <a:chOff x="2549520" y="1006200"/>
            <a:chExt cx="492120" cy="990360"/>
          </a:xfrm>
        </p:grpSpPr>
        <p:sp>
          <p:nvSpPr>
            <p:cNvPr id="193" name=""/>
            <p:cNvSpPr/>
            <p:nvPr/>
          </p:nvSpPr>
          <p:spPr>
            <a:xfrm flipV="1">
              <a:off x="3041640" y="1006200"/>
              <a:ext cx="0" cy="9903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549520" y="1222200"/>
                  <a:ext cx="412920" cy="66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0" y="0"/>
            <a:ext cx="9144000" cy="106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tude du systèm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ire un bilan des forces extérieures appliquées à la mass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3368520"/>
            <a:ext cx="9144000" cy="3489480"/>
            <a:chOff x="0" y="3368520"/>
            <a:chExt cx="9144000" cy="3489480"/>
          </a:xfrm>
        </p:grpSpPr>
        <p:grpSp>
          <p:nvGrpSpPr>
            <p:cNvPr id="197" name=""/>
            <p:cNvGrpSpPr/>
            <p:nvPr/>
          </p:nvGrpSpPr>
          <p:grpSpPr>
            <a:xfrm>
              <a:off x="0" y="3368520"/>
              <a:ext cx="9144000" cy="2729160"/>
              <a:chOff x="0" y="3368520"/>
              <a:chExt cx="9144000" cy="272916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3368520"/>
                <a:ext cx="9144000" cy="82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)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Exprimer littéralement le travail de chacune de ces forces, puis remplacer cos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par sa valeur.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à encadrer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9" name=""/>
                  <p:cNvSpPr txBox="1"/>
                  <p:nvPr/>
                </p:nvSpPr>
                <p:spPr>
                  <a:xfrm>
                    <a:off x="0" y="4365720"/>
                    <a:ext cx="1792440" cy="74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0" name=""/>
                  <p:cNvSpPr txBox="1"/>
                  <p:nvPr/>
                </p:nvSpPr>
                <p:spPr>
                  <a:xfrm>
                    <a:off x="15840" y="5348160"/>
                    <a:ext cx="175896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1" name=""/>
              <p:cNvSpPr/>
              <p:nvPr/>
            </p:nvSpPr>
            <p:spPr>
              <a:xfrm>
                <a:off x="1792440" y="4462560"/>
                <a:ext cx="202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ttér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98720" y="4459320"/>
                <a:ext cx="534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littéral mais cos</a:t>
                </a:r>
                <a:r>
                  <a:rPr b="0" i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 remplacé par sa vale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98720" y="5442120"/>
                <a:ext cx="534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littéral mais cos</a:t>
                </a:r>
                <a:r>
                  <a:rPr b="0" i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 remplacé par sa vale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51040" y="5457960"/>
                <a:ext cx="202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ttér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5" name="man_head_spinning_md_wht" descr=""/>
            <p:cNvPicPr/>
            <p:nvPr/>
          </p:nvPicPr>
          <p:blipFill>
            <a:blip r:embed="rId1"/>
            <a:stretch/>
          </p:blipFill>
          <p:spPr>
            <a:xfrm>
              <a:off x="2830680" y="5823000"/>
              <a:ext cx="1035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862440" y="6086520"/>
              <a:ext cx="25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érification pr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357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revenir au texte du TP III. 2)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appeler le professeur si beso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7:44:50Z</dcterms:created>
  <dc:creator>Jocelyn CLEMENT</dc:creator>
  <dc:description/>
  <dc:language>en-US</dc:language>
  <cp:lastModifiedBy>Jocelyn CLEMENT</cp:lastModifiedBy>
  <dcterms:modified xsi:type="dcterms:W3CDTF">2005-12-13T05:44:42Z</dcterms:modified>
  <cp:revision>56</cp:revision>
  <dc:subject/>
  <dc:title>Présentation PowerPoint</dc:title>
</cp:coreProperties>
</file>