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299-64E1-44F0-8E06-0A305213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181-B236-43F8-BBD5-C2C9FAFE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083-7212-418E-9317-8D78E2ED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5A0-2C08-490D-BD57-9668C5E7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F05-FE77-428C-9D57-5E43FBE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93B-FB7E-4DA9-AC0F-AEB43DD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D9F-BD1B-4707-8F1B-5CE309C2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B48-FA3A-432E-8B4D-30F8DB7C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D3E-A546-4023-8000-55B1C24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6F2-AA0D-42BF-812F-F9E8AE7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17B-C819-4262-ABB6-94632BF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DE2-FF88-4C20-8222-45970040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0D20-154B-49D9-982D-44638EAFCBB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incipe du rétropro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4360" y="5316480"/>
            <a:ext cx="22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dactrice : C.Dibarbo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ycée Raymond N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1 000 Toul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nement du système 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79640" y="1619280"/>
            <a:ext cx="7237440" cy="4431960"/>
            <a:chOff x="1079640" y="1619280"/>
            <a:chExt cx="7237440" cy="4431960"/>
          </a:xfrm>
        </p:grpSpPr>
        <p:grpSp>
          <p:nvGrpSpPr>
            <p:cNvPr id="46" name=""/>
            <p:cNvGrpSpPr/>
            <p:nvPr/>
          </p:nvGrpSpPr>
          <p:grpSpPr>
            <a:xfrm>
              <a:off x="1079640" y="1619280"/>
              <a:ext cx="7200720" cy="4319280"/>
              <a:chOff x="1079640" y="1619280"/>
              <a:chExt cx="7200720" cy="43192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079640" y="1619280"/>
                <a:ext cx="7200360" cy="4319280"/>
                <a:chOff x="1079640" y="1619280"/>
                <a:chExt cx="7200360" cy="4319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0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2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4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61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79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97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15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33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8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0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3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41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9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7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9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1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1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5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86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03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2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76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9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12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2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0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20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8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6036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74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92036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1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9640" y="24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9640" y="27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9640" y="29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79640" y="31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79640" y="33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79640" y="34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79640" y="43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79640" y="49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79640" y="52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79640" y="54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79640" y="56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58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3880" y="2060280"/>
              <a:ext cx="0" cy="2880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230640" y="4032000"/>
              <a:ext cx="0" cy="180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92732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8796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54440" y="5736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5101920" y="367488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4000" y="3429000"/>
            <a:ext cx="1795320" cy="47484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Lentille de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22600"/>
            <a:ext cx="782640" cy="47448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Ec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1800" y="4197240"/>
            <a:ext cx="1042920" cy="47484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Miroi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079640" y="1619280"/>
            <a:ext cx="7237440" cy="4431960"/>
            <a:chOff x="1079640" y="1619280"/>
            <a:chExt cx="7237440" cy="4431960"/>
          </a:xfrm>
        </p:grpSpPr>
        <p:grpSp>
          <p:nvGrpSpPr>
            <p:cNvPr id="144" name=""/>
            <p:cNvGrpSpPr/>
            <p:nvPr/>
          </p:nvGrpSpPr>
          <p:grpSpPr>
            <a:xfrm>
              <a:off x="1079640" y="1619280"/>
              <a:ext cx="7200720" cy="4319280"/>
              <a:chOff x="1079640" y="1619280"/>
              <a:chExt cx="7200720" cy="43192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079640" y="1619280"/>
                <a:ext cx="7200360" cy="4319280"/>
                <a:chOff x="1079640" y="1619280"/>
                <a:chExt cx="7200360" cy="4319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0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1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9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7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15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3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6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23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1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9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31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03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2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6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2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2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8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20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8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6036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4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2036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2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79640" y="24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79640" y="27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79640" y="29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79640" y="31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79640" y="33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79640" y="34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79640" y="43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79640" y="49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79640" y="52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79640" y="54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79640" y="56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79640" y="58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73880" y="2060280"/>
              <a:ext cx="0" cy="2880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230640" y="4032000"/>
              <a:ext cx="0" cy="180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16000" y="492732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8796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580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4440" y="5736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101920" y="367488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onnement de l’image A’B’ d’un objet AB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 travers la lentille se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1480" y="4548240"/>
            <a:ext cx="82296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0560" y="4746600"/>
            <a:ext cx="7837560" cy="900000"/>
            <a:chOff x="790560" y="4746600"/>
            <a:chExt cx="7837560" cy="900000"/>
          </a:xfrm>
        </p:grpSpPr>
        <p:sp>
          <p:nvSpPr>
            <p:cNvPr id="242" name=""/>
            <p:cNvSpPr/>
            <p:nvPr/>
          </p:nvSpPr>
          <p:spPr>
            <a:xfrm>
              <a:off x="790560" y="4752720"/>
              <a:ext cx="2438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9200" y="4746600"/>
              <a:ext cx="5398920" cy="900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6920" y="4749840"/>
              <a:ext cx="190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0040" y="4832280"/>
              <a:ext cx="165240" cy="31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066680" y="4381560"/>
            <a:ext cx="7207200" cy="1085400"/>
            <a:chOff x="1066680" y="4381560"/>
            <a:chExt cx="7207200" cy="1085400"/>
          </a:xfrm>
        </p:grpSpPr>
        <p:sp>
          <p:nvSpPr>
            <p:cNvPr id="247" name=""/>
            <p:cNvSpPr/>
            <p:nvPr/>
          </p:nvSpPr>
          <p:spPr>
            <a:xfrm>
              <a:off x="1066680" y="4381560"/>
              <a:ext cx="2158920" cy="10796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2880" y="5016600"/>
              <a:ext cx="152280" cy="76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1720" y="5461200"/>
              <a:ext cx="50421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93880" y="5454360"/>
              <a:ext cx="355680" cy="1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33320" y="4610160"/>
            <a:ext cx="7197840" cy="900000"/>
            <a:chOff x="733320" y="4610160"/>
            <a:chExt cx="7197840" cy="900000"/>
          </a:xfrm>
        </p:grpSpPr>
        <p:sp>
          <p:nvSpPr>
            <p:cNvPr id="252" name=""/>
            <p:cNvSpPr/>
            <p:nvPr/>
          </p:nvSpPr>
          <p:spPr>
            <a:xfrm>
              <a:off x="733320" y="4610160"/>
              <a:ext cx="7197840" cy="90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4480" y="4794120"/>
              <a:ext cx="16488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30480" y="5010120"/>
              <a:ext cx="1652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57640" y="4700520"/>
            <a:ext cx="4560480" cy="1755720"/>
            <a:chOff x="3257640" y="4700520"/>
            <a:chExt cx="4560480" cy="1755720"/>
          </a:xfrm>
        </p:grpSpPr>
        <p:grpSp>
          <p:nvGrpSpPr>
            <p:cNvPr id="256" name=""/>
            <p:cNvGrpSpPr/>
            <p:nvPr/>
          </p:nvGrpSpPr>
          <p:grpSpPr>
            <a:xfrm>
              <a:off x="7456320" y="4700520"/>
              <a:ext cx="361800" cy="952560"/>
              <a:chOff x="7456320" y="4700520"/>
              <a:chExt cx="361800" cy="952560"/>
            </a:xfrm>
          </p:grpSpPr>
          <p:sp>
            <p:nvSpPr>
              <p:cNvPr id="257" name=""/>
              <p:cNvSpPr/>
              <p:nvPr/>
            </p:nvSpPr>
            <p:spPr>
              <a:xfrm>
                <a:off x="7552800" y="4938840"/>
                <a:ext cx="0" cy="53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56320" y="47005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94120" y="5338800"/>
                <a:ext cx="324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57640" y="6186600"/>
              <a:ext cx="431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9280" y="6141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6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592280" y="4565520"/>
            <a:ext cx="1625760" cy="1484280"/>
            <a:chOff x="1592280" y="4565520"/>
            <a:chExt cx="1625760" cy="1484280"/>
          </a:xfrm>
        </p:grpSpPr>
        <p:grpSp>
          <p:nvGrpSpPr>
            <p:cNvPr id="263" name=""/>
            <p:cNvGrpSpPr/>
            <p:nvPr/>
          </p:nvGrpSpPr>
          <p:grpSpPr>
            <a:xfrm>
              <a:off x="1592280" y="4565520"/>
              <a:ext cx="266760" cy="619200"/>
              <a:chOff x="1592280" y="4565520"/>
              <a:chExt cx="266760" cy="619200"/>
            </a:xfrm>
          </p:grpSpPr>
          <p:sp>
            <p:nvSpPr>
              <p:cNvPr id="264" name=""/>
              <p:cNvSpPr/>
              <p:nvPr/>
            </p:nvSpPr>
            <p:spPr>
              <a:xfrm flipV="1">
                <a:off x="1801800" y="4746600"/>
                <a:ext cx="0" cy="180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92280" y="4565520"/>
                <a:ext cx="257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2000" y="487044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778040" y="6004080"/>
              <a:ext cx="144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74840" y="573552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079640" y="1619280"/>
            <a:ext cx="7237440" cy="4836960"/>
            <a:chOff x="1079640" y="1619280"/>
            <a:chExt cx="7237440" cy="4836960"/>
          </a:xfrm>
        </p:grpSpPr>
        <p:grpSp>
          <p:nvGrpSpPr>
            <p:cNvPr id="270" name=""/>
            <p:cNvGrpSpPr/>
            <p:nvPr/>
          </p:nvGrpSpPr>
          <p:grpSpPr>
            <a:xfrm>
              <a:off x="1079640" y="1619280"/>
              <a:ext cx="7200720" cy="4319640"/>
              <a:chOff x="1079640" y="1619280"/>
              <a:chExt cx="7200720" cy="43196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079640" y="1619280"/>
                <a:ext cx="7200360" cy="4319640"/>
                <a:chOff x="1079640" y="1619280"/>
                <a:chExt cx="7200360" cy="4319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07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5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43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1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79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97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15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3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5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9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8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5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3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41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77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95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14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31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6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03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5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76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93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2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9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8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5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4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0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0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8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56036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4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2036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1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079640" y="240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79640" y="276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79640" y="29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79640" y="312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79640" y="33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79640" y="348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9640" y="43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9640" y="49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9640" y="52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9640" y="54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79640" y="56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79640" y="582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73880" y="2060640"/>
              <a:ext cx="0" cy="2879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230640" y="4032360"/>
              <a:ext cx="0" cy="1800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16000" y="492768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801800" y="4746240"/>
              <a:ext cx="0" cy="18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56400" y="4937040"/>
              <a:ext cx="0" cy="540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95840" y="6005520"/>
              <a:ext cx="287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87960" y="490860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25800" y="490860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54440" y="573732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079960" y="3730680"/>
              <a:ext cx="722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92280" y="456552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1640" y="4870440"/>
              <a:ext cx="257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59560" y="4699080"/>
              <a:ext cx="324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97720" y="5337000"/>
              <a:ext cx="3240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57640" y="6186600"/>
              <a:ext cx="431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0280" y="5751360"/>
              <a:ext cx="6858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9280" y="6141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6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onnement de l’image A’’B’’ de l’image A’B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 travers le miroi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372280" y="2087280"/>
            <a:ext cx="2160360" cy="2160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592520" y="1793880"/>
            <a:ext cx="2955960" cy="3127320"/>
            <a:chOff x="4592520" y="1793880"/>
            <a:chExt cx="2955960" cy="3127320"/>
          </a:xfrm>
        </p:grpSpPr>
        <p:sp>
          <p:nvSpPr>
            <p:cNvPr id="378" name=""/>
            <p:cNvSpPr/>
            <p:nvPr/>
          </p:nvSpPr>
          <p:spPr>
            <a:xfrm>
              <a:off x="4668840" y="2041560"/>
              <a:ext cx="2879640" cy="28796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92520" y="1793880"/>
              <a:ext cx="48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omic Sans MS"/>
                </a:rPr>
                <a:t>A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973680" y="1803240"/>
            <a:ext cx="3581280" cy="3659400"/>
            <a:chOff x="3973680" y="1803240"/>
            <a:chExt cx="3581280" cy="3659400"/>
          </a:xfrm>
        </p:grpSpPr>
        <p:sp>
          <p:nvSpPr>
            <p:cNvPr id="381" name=""/>
            <p:cNvSpPr/>
            <p:nvPr/>
          </p:nvSpPr>
          <p:spPr>
            <a:xfrm>
              <a:off x="4135320" y="2041560"/>
              <a:ext cx="3419640" cy="342108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73680" y="1803240"/>
              <a:ext cx="485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B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H="1">
            <a:off x="4120920" y="2044800"/>
            <a:ext cx="539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he d’un faisceau issu d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79640" y="1619280"/>
            <a:ext cx="7237440" cy="4319640"/>
            <a:chOff x="1079640" y="1619280"/>
            <a:chExt cx="7237440" cy="4319640"/>
          </a:xfrm>
        </p:grpSpPr>
        <p:grpSp>
          <p:nvGrpSpPr>
            <p:cNvPr id="387" name=""/>
            <p:cNvGrpSpPr/>
            <p:nvPr/>
          </p:nvGrpSpPr>
          <p:grpSpPr>
            <a:xfrm>
              <a:off x="1079640" y="1619280"/>
              <a:ext cx="7237440" cy="4319640"/>
              <a:chOff x="1079640" y="1619280"/>
              <a:chExt cx="7237440" cy="43196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079640" y="1619280"/>
                <a:ext cx="7200720" cy="4319640"/>
                <a:chOff x="1079640" y="1619280"/>
                <a:chExt cx="7200720" cy="43196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079640" y="1619280"/>
                  <a:ext cx="7200360" cy="4319640"/>
                  <a:chOff x="1079640" y="1619280"/>
                  <a:chExt cx="7200360" cy="4319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07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25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43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61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79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97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33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5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69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88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05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3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41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59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77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5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14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31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5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6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86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03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4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5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76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93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12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29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48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65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4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0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20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38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56036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74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92036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1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2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1079640" y="16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079640" y="186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079640" y="204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79640" y="222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079640" y="240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079640" y="25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79640" y="276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079640" y="29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079640" y="312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079640" y="330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79640" y="348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079640" y="366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79640" y="384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079640" y="402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079640" y="420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079640" y="43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079640" y="456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079640" y="47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079640" y="492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079640" y="510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079640" y="52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079640" y="546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79640" y="56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079640" y="582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3811680" y="2043000"/>
                <a:ext cx="16761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4096080" y="4268520"/>
                <a:ext cx="1261080" cy="1356120"/>
                <a:chOff x="4096080" y="4268520"/>
                <a:chExt cx="1261080" cy="13561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>
                  <a:off x="4096080" y="4272480"/>
                  <a:ext cx="1257120" cy="125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5327640" y="4268520"/>
                  <a:ext cx="2952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5221800" y="43732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5113800" y="448128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5008680" y="458568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4907160" y="468936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4801680" y="479376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693680" y="4902120"/>
                  <a:ext cx="2952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587840" y="50068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86680" y="510912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381200" y="521352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273200" y="53218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167720" y="542664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3230640" y="4032360"/>
                <a:ext cx="0" cy="1800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116000" y="4927680"/>
                <a:ext cx="72010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801800" y="4746240"/>
                <a:ext cx="0" cy="18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56400" y="4937040"/>
                <a:ext cx="0" cy="54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87960" y="4908600"/>
                <a:ext cx="54000" cy="5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25800" y="4908600"/>
                <a:ext cx="54000" cy="5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30400" y="493704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73480" y="4917960"/>
                <a:ext cx="34308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92280" y="456552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01640" y="4870440"/>
                <a:ext cx="257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59560" y="4699080"/>
                <a:ext cx="324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97720" y="5337000"/>
                <a:ext cx="324000" cy="3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64040" y="48895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59480" y="49561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92520" y="1797120"/>
              <a:ext cx="48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3680" y="1806480"/>
              <a:ext cx="485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133520" y="2048040"/>
              <a:ext cx="539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417680" y="4035600"/>
            <a:ext cx="6121440" cy="1441440"/>
            <a:chOff x="1417680" y="4035600"/>
            <a:chExt cx="6121440" cy="1441440"/>
          </a:xfrm>
        </p:grpSpPr>
        <p:sp>
          <p:nvSpPr>
            <p:cNvPr id="488" name=""/>
            <p:cNvSpPr/>
            <p:nvPr/>
          </p:nvSpPr>
          <p:spPr>
            <a:xfrm flipV="1">
              <a:off x="1417680" y="4040280"/>
              <a:ext cx="1800360" cy="900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20920" y="4035600"/>
              <a:ext cx="4318200" cy="144144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3880" y="4035600"/>
              <a:ext cx="1765080" cy="590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 flipH="1" flipV="1">
            <a:off x="4135320" y="2047680"/>
            <a:ext cx="876240" cy="25779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69880" y="4595760"/>
            <a:ext cx="7337520" cy="916200"/>
            <a:chOff x="569880" y="4595760"/>
            <a:chExt cx="7337520" cy="916200"/>
          </a:xfrm>
        </p:grpSpPr>
        <p:sp>
          <p:nvSpPr>
            <p:cNvPr id="493" name=""/>
            <p:cNvSpPr/>
            <p:nvPr/>
          </p:nvSpPr>
          <p:spPr>
            <a:xfrm>
              <a:off x="569880" y="4595760"/>
              <a:ext cx="3963960" cy="488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9560" y="4611600"/>
              <a:ext cx="7197840" cy="9003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H="1" flipV="1">
            <a:off x="4133880" y="2038320"/>
            <a:ext cx="393840" cy="3054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95320" y="4033800"/>
            <a:ext cx="1432080" cy="895320"/>
          </a:xfrm>
          <a:custGeom>
            <a:avLst/>
            <a:gdLst/>
            <a:ahLst/>
            <a:rect l="l" t="t" r="r" b="b"/>
            <a:pathLst>
              <a:path w="903" h="564">
                <a:moveTo>
                  <a:pt x="0" y="453"/>
                </a:moveTo>
                <a:lnTo>
                  <a:pt x="903" y="0"/>
                </a:lnTo>
                <a:lnTo>
                  <a:pt x="903" y="564"/>
                </a:lnTo>
                <a:lnTo>
                  <a:pt x="0" y="453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27400" y="4033800"/>
            <a:ext cx="1770120" cy="1062000"/>
          </a:xfrm>
          <a:custGeom>
            <a:avLst/>
            <a:gdLst/>
            <a:ahLst/>
            <a:rect l="l" t="t" r="r" b="b"/>
            <a:pathLst>
              <a:path w="1116" h="669">
                <a:moveTo>
                  <a:pt x="0" y="0"/>
                </a:moveTo>
                <a:lnTo>
                  <a:pt x="3" y="567"/>
                </a:lnTo>
                <a:lnTo>
                  <a:pt x="819" y="669"/>
                </a:lnTo>
                <a:lnTo>
                  <a:pt x="1116" y="372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038320"/>
            <a:ext cx="876240" cy="3057480"/>
          </a:xfrm>
          <a:custGeom>
            <a:avLst/>
            <a:gdLst/>
            <a:ahLst/>
            <a:rect l="l" t="t" r="r" b="b"/>
            <a:pathLst>
              <a:path w="552" h="1926">
                <a:moveTo>
                  <a:pt x="249" y="1926"/>
                </a:moveTo>
                <a:lnTo>
                  <a:pt x="552" y="1620"/>
                </a:lnTo>
                <a:lnTo>
                  <a:pt x="0" y="0"/>
                </a:lnTo>
                <a:lnTo>
                  <a:pt x="249" y="1926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48:51Z</dcterms:created>
  <dc:creator>GD</dc:creator>
  <dc:description/>
  <dc:language>en-US</dc:language>
  <cp:lastModifiedBy>Jocelyn CLEMENT</cp:lastModifiedBy>
  <dcterms:modified xsi:type="dcterms:W3CDTF">2009-03-14T13:55:20Z</dcterms:modified>
  <cp:revision>24</cp:revision>
  <dc:subject/>
  <dc:title>Principe du rétroprojecteur</dc:title>
</cp:coreProperties>
</file>